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D6C8-B2CD-443F-AF89-50BDF9F63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B535-C4EA-4FD0-A53F-038AE2396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C915-CE13-4749-B594-AAEE9EEE5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D455-C622-4B13-8B63-067C6AB72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9B48-B0B5-49CF-8A88-6AEB64BD0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F126B-04ED-4606-A112-D5BE95B9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FDF8-072F-41EE-B939-D988C2AD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D294-562E-4F18-B341-6E5E2040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7F5C-0FCD-4076-B2E4-6857F9FB8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D072-4A48-4B0B-8D94-07C429A83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0440-8D6A-4AEB-B86D-7143FAD5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31698-E4CC-449F-9AF6-E764AA675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C03D-E730-4F28-9A8D-5F4475BF5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in Multi-Ethnic Socie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i Lanka &amp; 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conomic: Unemploy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983 riots led to massive unemploy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number of the jobless were Sinhal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jobless took to vandalising, looting and burning their places of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: Loss of Foreign Invest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Investments for a country's grow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country is unstable, investors lose confidence i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graph on pg 107 for impact of the conflict on Foreign Invest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conomic: Fall in number of Touris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rism is a major income earner for Sri Lan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urist arrivals decreased steadily after the July 1983 ri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sulted in a loss of jobs and earn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conomy was affected and funds were limited for the development of infra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: Tamils driven out of their home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flict caused large-scale displacement of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usands of Tamils fled to Tamil Nadu during the July 1983 ri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5,000 remain as refugees in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: Tamils driven out of their home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i Lankan Army set up High Security Zones (HSZ) to keep LTTE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areas of Tamil land occupied by the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ils forced to flee after the army moved 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people still live in overcrowded conditions in refugee cam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the consequences of the conflic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1 Political con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2 Economic con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3 Social con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: Armed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ls made peaceful demands at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deral Party asked for recognition for Tamil areas as a fed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s not met. Tamil United Liberation Front (TULF) emer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ULF calls for separate independent state which government re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Tamils form a militant group called the Liberation Tigers of Tamil Eelam (LTT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: Armed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TTE more popularly known as Tamil Tigers (considered a terrorist organiz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igers have attack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hale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ls members of the police for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l members/supporters of the ruling pa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mil politicians who did not support the proposed separate 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: Armed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halese also committed acts of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ly 1983 riots saw 14 Sinhalese soldiers killed and sparked a long armed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med conflict has lasted more than 20 years and cost more than 60,000 l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: Foreign Inter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onflict may attract the attention of another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 may country may act as a medi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try may also send troops to directly solve the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: Foreign Inter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tried to play mediator after 1983 ri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 Minister sent to med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logue failed as parties involved could not reach an agre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: Foreign Inter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n govt sent 20 Indian ships to provide food and fuel to the Tamils (3 June 198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turned away by Sri Lankan na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tried to air-drop the supplies and violated Sri Lankan airsp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: Foreign Interven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pressure from India, Sri Lanka signed a peace accord with India (July 1987)(Peace Accord extract on pg 1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il Tigers failed to disarm in accordance with Peace Acco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sent troops to take control of the Tamil Tigers (Oct 198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ops withdrawn in March 1990 after failing to defeat the Ti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8T01:27:00Z</dcterms:created>
  <dc:creator>moe</dc:creator>
  <dc:description/>
  <dc:language>en-US</dc:language>
  <cp:lastModifiedBy>moe</cp:lastModifiedBy>
  <dcterms:modified xsi:type="dcterms:W3CDTF">2009-01-28T01:41:31Z</dcterms:modified>
  <cp:revision>4</cp:revision>
  <dc:subject/>
  <dc:title>Conflict in Multi-Ethnic Societies</dc:title>
</cp:coreProperties>
</file>